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0C8-10A4-44CF-89C9-15CB7925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41A9-7BB1-40AB-9F2F-A73E8C76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9024-FA75-4A68-9BFE-58DF55FE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E23-57AB-42EE-8854-F0092A30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BA9-1C7B-45C9-9EC7-B95B6999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A5A-3CDD-43A7-AD34-50A4F635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DA1-331A-44C5-9544-70E6F72A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5AE-42BC-4AA3-B67B-C155AB7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929C-0C70-483F-B1AD-EA9E192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79A-1383-437F-BA53-15995F69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9B5-5AEE-4311-8042-0259397F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3BC-0062-433E-A354-FD2219D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7A18-D2AE-4CF0-A640-1632AE5A65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o-sib.ru/" TargetMode="External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1855800"/>
            <a:ext cx="4757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ahoma"/>
              </a:rPr>
              <a:t>Радиоканал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9280" y="2725560"/>
            <a:ext cx="388800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лассификация зд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2498760"/>
            <a:ext cx="540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арактеристики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железобетон, кирпич, дерев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олщина сте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40-60 см, 20-40 см, 10-20 см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редняя площадь помещ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0-2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20-4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40-60 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580000" y="2349360"/>
            <a:ext cx="33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Калькулятор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33400" y="1836720"/>
            <a:ext cx="769932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170600" cy="4825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508720" y="3457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чество связ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4011480"/>
            <a:ext cx="23050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71280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 испытани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116000" y="1662120"/>
            <a:ext cx="73454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79280" y="1628640"/>
          <a:ext cx="8572680" cy="5032440"/>
        </p:xfrm>
        <a:graphic>
          <a:graphicData uri="http://schemas.openxmlformats.org/drawingml/2006/table">
            <a:tbl>
              <a:tblPr/>
              <a:tblGrid>
                <a:gridCol w="5616720"/>
                <a:gridCol w="1512720"/>
                <a:gridCol w="14432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50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±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фисн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2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22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±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±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илое зд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, толщина стен – 14 с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едняя площадь помещений - 16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±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60213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дальность связи с оценкой не ниже «4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24000" y="1773360"/>
          <a:ext cx="8572320" cy="3990960"/>
        </p:xfrm>
        <a:graphic>
          <a:graphicData uri="http://schemas.openxmlformats.org/drawingml/2006/table">
            <a:tbl>
              <a:tblPr/>
              <a:tblGrid>
                <a:gridCol w="5832360"/>
                <a:gridCol w="1368360"/>
                <a:gridCol w="137160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4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±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±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499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, толщина стен – 45 см, средня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щадь помещений - 23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±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±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773360"/>
            <a:ext cx="57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тяженные помещения и коридо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39640" y="3357720"/>
            <a:ext cx="8209080" cy="19285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268360" y="270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сшир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87280" y="2997360"/>
            <a:ext cx="1152720" cy="93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8000" y="1700280"/>
          <a:ext cx="8856720" cy="4537080"/>
        </p:xfrm>
        <a:graphic>
          <a:graphicData uri="http://schemas.openxmlformats.org/drawingml/2006/table">
            <a:tbl>
              <a:tblPr/>
              <a:tblGrid>
                <a:gridCol w="6624720"/>
                <a:gridCol w="1152360"/>
                <a:gridCol w="1079640"/>
              </a:tblGrid>
              <a:tr h="1191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льность*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3,6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5,5 м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елезобетонное зд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олщина стен – 24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  <a:tr h="11336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тяженное помещение сечением 13,5 м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ирпичное здание, толщина стен – 45 с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5653080" y="2924280"/>
            <a:ext cx="3240000" cy="17413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250920" y="1968480"/>
            <a:ext cx="5003640" cy="1965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360360" y="4432320"/>
            <a:ext cx="4643280" cy="1733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 flipV="1">
            <a:off x="1258920" y="4293720"/>
            <a:ext cx="3456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332000" y="4509720"/>
            <a:ext cx="3240000" cy="2087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187280" y="2133720"/>
            <a:ext cx="2880000" cy="2087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619280" y="2133720"/>
            <a:ext cx="1728720" cy="201600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364000" y="3212640"/>
            <a:ext cx="3095640" cy="1584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6011640" y="2997000"/>
            <a:ext cx="2447640" cy="165564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855800"/>
            <a:ext cx="8070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льность «в поле» и «в здан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комендации по установк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величение да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93080" y="4221000"/>
            <a:ext cx="1358640" cy="2038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ри вопрос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опрос-Отве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32240" y="1773360"/>
            <a:ext cx="484812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6711840" y="226368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693432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678672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948000" y="1773360"/>
            <a:ext cx="204840" cy="215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Увеличение дальност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2030400"/>
            <a:ext cx="835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выносных антен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значительно увеличивается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уменьшается влияние источников помех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нет дополнительных источников пит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спользование усилите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дополнительное увеличение да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простота установ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плоский излучател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3892680" cy="2305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3"/>
          <a:stretch/>
        </p:blipFill>
        <p:spPr>
          <a:xfrm>
            <a:off x="5148360" y="2781360"/>
            <a:ext cx="3562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ые: волновой кана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806480" y="2741760"/>
            <a:ext cx="1613160" cy="36399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385776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Типы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11280" y="203040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направленные: коллинеарна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1087560" cy="3933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a200mu_dn.gif (12911 bytes)"/>
          <p:cNvPicPr/>
          <p:nvPr/>
        </p:nvPicPr>
        <p:blipFill>
          <a:blip r:embed="rId3"/>
          <a:stretch/>
        </p:blipFill>
        <p:spPr>
          <a:xfrm>
            <a:off x="4282920" y="2646360"/>
            <a:ext cx="3961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95280" y="2421000"/>
          <a:ext cx="8353440" cy="32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421000"/>
                    <a:ext cx="835344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Варианты примен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250920" y="2276640"/>
          <a:ext cx="849780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276640"/>
                    <a:ext cx="849780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имер построе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60360" y="41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116000" y="41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116000" y="38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1405080" y="38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1620720" y="3730680"/>
            <a:ext cx="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1620720" y="373068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765440" y="3514680"/>
            <a:ext cx="0" cy="432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1909800" y="3587760"/>
            <a:ext cx="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2052720" y="36590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213080" y="3658680"/>
            <a:ext cx="0" cy="358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2773440" y="38037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412720" y="36590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773440" y="36590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168720" y="28782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3892680" y="281628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545640" y="4116960"/>
            <a:ext cx="360000" cy="32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204000" y="4339800"/>
            <a:ext cx="255240" cy="21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3461400" y="433404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734160" y="5243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589800" y="524340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589800" y="495612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6877080" y="49561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6877080" y="466740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805440" y="4884840"/>
            <a:ext cx="144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165800" y="236232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7021440" y="2362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21440" y="207504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7310520" y="207504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526160" y="1787400"/>
            <a:ext cx="0" cy="4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6950160" y="1787400"/>
            <a:ext cx="576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237440" y="1571760"/>
            <a:ext cx="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7093080" y="1643040"/>
            <a:ext cx="0" cy="287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6950160" y="1714680"/>
            <a:ext cx="0" cy="144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84480" y="1967760"/>
            <a:ext cx="810360" cy="7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4457880" y="2617560"/>
            <a:ext cx="1241280" cy="110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5699520" y="2611800"/>
            <a:ext cx="72360" cy="12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40000" y="2161440"/>
            <a:ext cx="18180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6571080" y="2207880"/>
            <a:ext cx="256320" cy="28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6829560" y="2195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5726160" y="4235400"/>
            <a:ext cx="71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4789440" y="401796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5726160" y="42354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7526160" y="48830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7165800" y="47386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7525800" y="473868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7742160" y="5243400"/>
            <a:ext cx="35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742160" y="5243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7237440" y="509904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3062160" y="27939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2917800" y="27939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917800" y="250668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3206880" y="250668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3781440" y="2722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3637080" y="2722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3637080" y="2435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3925800" y="2435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269040" y="2744640"/>
            <a:ext cx="1429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6157800" y="265104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013440" y="26510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013440" y="2363760"/>
            <a:ext cx="2890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302520" y="2363760"/>
            <a:ext cx="3585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8356680" y="476100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8245440" y="46674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8101080" y="46674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8101080" y="4379400"/>
            <a:ext cx="288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8389800" y="4379760"/>
            <a:ext cx="3589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8572680" y="5697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8461440" y="560376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8317080" y="5603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317080" y="531648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8605800" y="531648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2879640" y="4822920"/>
            <a:ext cx="1429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2773440" y="473868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2629080" y="47386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629080" y="4451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17800" y="445140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284720" y="3946680"/>
            <a:ext cx="0" cy="28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13080" y="4019400"/>
            <a:ext cx="7164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141800" y="3875040"/>
            <a:ext cx="1429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213080" y="4378320"/>
            <a:ext cx="505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141800" y="4378320"/>
            <a:ext cx="647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41800" y="409104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4429080" y="409104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4068720" y="34434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4068360" y="3154320"/>
            <a:ext cx="8892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4068720" y="3443400"/>
            <a:ext cx="7956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3543480" y="319248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3637080" y="3443400"/>
            <a:ext cx="288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637080" y="3405240"/>
            <a:ext cx="1238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"/>
          <p:cNvSpPr/>
          <p:nvPr/>
        </p:nvSpPr>
        <p:spPr>
          <a:xfrm>
            <a:off x="7174080" y="247320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07040"/>
            <a:ext cx="1429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1476000" y="4019400"/>
            <a:ext cx="144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433440" y="4581360"/>
            <a:ext cx="140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ульт охраны (РР0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 rot="17725200">
            <a:off x="3200400" y="4528800"/>
            <a:ext cx="1235160" cy="215640"/>
          </a:xfrm>
          <a:prstGeom prst="rightArrow">
            <a:avLst>
              <a:gd name="adj1" fmla="val 50000"/>
              <a:gd name="adj2" fmla="val 143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 rot="3913800">
            <a:off x="1430640" y="3056400"/>
            <a:ext cx="574560" cy="195480"/>
          </a:xfrm>
          <a:prstGeom prst="rightArrow">
            <a:avLst>
              <a:gd name="adj1" fmla="val 50000"/>
              <a:gd name="adj2" fmla="val 734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179280" y="198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авлен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268360" y="548640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ллинеарная антен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284720" y="4595760"/>
            <a:ext cx="14436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4284720" y="423540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4211640" y="49546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7356600" y="2481120"/>
            <a:ext cx="14436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37600" y="2219400"/>
            <a:ext cx="88560" cy="2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164360" y="285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6877080" y="531504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5661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РР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6877080" y="4954680"/>
            <a:ext cx="7128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472428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46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4930920" y="4186080"/>
            <a:ext cx="37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ет автосмены частот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4013280"/>
            <a:ext cx="5759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9126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51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554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57796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986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2076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243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650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6860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081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288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3509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57164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9232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01480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23548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576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6782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90040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21080" y="4013280"/>
            <a:ext cx="36972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34320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564240" y="4013280"/>
            <a:ext cx="3700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786360" y="4013280"/>
            <a:ext cx="36828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06208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7081920" y="2401920"/>
            <a:ext cx="0" cy="1611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2062080" y="2263680"/>
            <a:ext cx="370080" cy="3492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282760" y="1773360"/>
            <a:ext cx="0" cy="490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135160" y="17733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282400" y="1773360"/>
            <a:ext cx="1494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711840" y="2289240"/>
            <a:ext cx="370080" cy="347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1798560"/>
            <a:ext cx="0" cy="490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7867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934320" y="1798560"/>
            <a:ext cx="147600" cy="209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095640" y="2333520"/>
            <a:ext cx="2952720" cy="349200"/>
          </a:xfrm>
          <a:prstGeom prst="leftRightArrow">
            <a:avLst>
              <a:gd name="adj1" fmla="val 29519"/>
              <a:gd name="adj2" fmla="val 78763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138560" y="4684680"/>
            <a:ext cx="4610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401840" y="52768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706920" y="4653000"/>
            <a:ext cx="406440" cy="1655640"/>
          </a:xfrm>
          <a:custGeom>
            <a:avLst/>
            <a:gdLst>
              <a:gd name="textAreaLeft" fmla="*/ 259560 w 406440"/>
              <a:gd name="textAreaRight" fmla="*/ 406800 w 40644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59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4788000" y="371628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Прост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Затухание в сумматор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971640" y="2924280"/>
            <a:ext cx="266364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348000" y="2708280"/>
            <a:ext cx="576360" cy="43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1844640"/>
            <a:ext cx="1724040" cy="47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859" y="44211"/>
                </a:moveTo>
                <a:lnTo>
                  <a:pt x="22555" y="5201"/>
                </a:lnTo>
              </a:path>
              <a:path w="21600" h="21600">
                <a:moveTo>
                  <a:pt x="22555" y="0"/>
                </a:moveTo>
                <a:lnTo>
                  <a:pt x="22555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 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мато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одключение антен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1692360" y="3645000"/>
            <a:ext cx="1922400" cy="20160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3492360" y="61405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Вариант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3036960" y="2349360"/>
            <a:ext cx="623880" cy="1511280"/>
          </a:xfrm>
          <a:custGeom>
            <a:avLst/>
            <a:gdLst/>
            <a:ahLst/>
            <a:rect l="l" t="t" r="r" b="b"/>
            <a:pathLst>
              <a:path w="393" h="952">
                <a:moveTo>
                  <a:pt x="15" y="952"/>
                </a:moveTo>
                <a:cubicBezTo>
                  <a:pt x="7" y="808"/>
                  <a:pt x="0" y="665"/>
                  <a:pt x="15" y="635"/>
                </a:cubicBezTo>
                <a:cubicBezTo>
                  <a:pt x="30" y="605"/>
                  <a:pt x="83" y="771"/>
                  <a:pt x="106" y="771"/>
                </a:cubicBezTo>
                <a:cubicBezTo>
                  <a:pt x="129" y="771"/>
                  <a:pt x="128" y="635"/>
                  <a:pt x="151" y="635"/>
                </a:cubicBezTo>
                <a:cubicBezTo>
                  <a:pt x="174" y="635"/>
                  <a:pt x="219" y="771"/>
                  <a:pt x="242" y="771"/>
                </a:cubicBezTo>
                <a:cubicBezTo>
                  <a:pt x="265" y="771"/>
                  <a:pt x="264" y="635"/>
                  <a:pt x="287" y="635"/>
                </a:cubicBezTo>
                <a:cubicBezTo>
                  <a:pt x="310" y="635"/>
                  <a:pt x="363" y="771"/>
                  <a:pt x="378" y="771"/>
                </a:cubicBezTo>
                <a:cubicBezTo>
                  <a:pt x="393" y="771"/>
                  <a:pt x="378" y="763"/>
                  <a:pt x="378" y="635"/>
                </a:cubicBezTo>
                <a:cubicBezTo>
                  <a:pt x="378" y="507"/>
                  <a:pt x="378" y="253"/>
                  <a:pt x="378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276720" y="1773000"/>
            <a:ext cx="718560" cy="1584360"/>
            <a:chOff x="3276720" y="1773000"/>
            <a:chExt cx="718560" cy="1584360"/>
          </a:xfrm>
        </p:grpSpPr>
        <p:sp>
          <p:nvSpPr>
            <p:cNvPr id="477" name=""/>
            <p:cNvSpPr/>
            <p:nvPr/>
          </p:nvSpPr>
          <p:spPr>
            <a:xfrm flipV="1">
              <a:off x="363708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63492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788000" y="411336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Автосмена част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971640" y="2924280"/>
            <a:ext cx="0" cy="216036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960480" y="5013360"/>
            <a:ext cx="731880" cy="298440"/>
          </a:xfrm>
          <a:custGeom>
            <a:avLst/>
            <a:gdLst/>
            <a:ahLst/>
            <a:rect l="l" t="t" r="r" b="b"/>
            <a:pathLst>
              <a:path w="461" h="188">
                <a:moveTo>
                  <a:pt x="461" y="45"/>
                </a:moveTo>
                <a:cubicBezTo>
                  <a:pt x="430" y="33"/>
                  <a:pt x="400" y="22"/>
                  <a:pt x="370" y="45"/>
                </a:cubicBezTo>
                <a:cubicBezTo>
                  <a:pt x="340" y="68"/>
                  <a:pt x="302" y="181"/>
                  <a:pt x="279" y="181"/>
                </a:cubicBezTo>
                <a:cubicBezTo>
                  <a:pt x="256" y="181"/>
                  <a:pt x="249" y="45"/>
                  <a:pt x="234" y="45"/>
                </a:cubicBezTo>
                <a:cubicBezTo>
                  <a:pt x="219" y="45"/>
                  <a:pt x="203" y="181"/>
                  <a:pt x="188" y="181"/>
                </a:cubicBezTo>
                <a:cubicBezTo>
                  <a:pt x="173" y="181"/>
                  <a:pt x="158" y="45"/>
                  <a:pt x="143" y="45"/>
                </a:cubicBezTo>
                <a:cubicBezTo>
                  <a:pt x="128" y="45"/>
                  <a:pt x="113" y="181"/>
                  <a:pt x="98" y="181"/>
                </a:cubicBezTo>
                <a:cubicBezTo>
                  <a:pt x="83" y="181"/>
                  <a:pt x="67" y="45"/>
                  <a:pt x="52" y="45"/>
                </a:cubicBezTo>
                <a:cubicBezTo>
                  <a:pt x="37" y="45"/>
                  <a:pt x="14" y="188"/>
                  <a:pt x="7" y="181"/>
                </a:cubicBezTo>
                <a:cubicBezTo>
                  <a:pt x="0" y="174"/>
                  <a:pt x="3" y="87"/>
                  <a:pt x="7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11280" y="1773000"/>
            <a:ext cx="718560" cy="1584360"/>
            <a:chOff x="611280" y="1773000"/>
            <a:chExt cx="718560" cy="1584360"/>
          </a:xfrm>
        </p:grpSpPr>
        <p:sp>
          <p:nvSpPr>
            <p:cNvPr id="484" name=""/>
            <p:cNvSpPr/>
            <p:nvPr/>
          </p:nvSpPr>
          <p:spPr>
            <a:xfrm flipV="1">
              <a:off x="971640" y="1773000"/>
              <a:ext cx="0" cy="158436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112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969480" y="1844640"/>
              <a:ext cx="360360" cy="2890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1187280" y="189000"/>
            <a:ext cx="79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Использование усилителей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2571840"/>
            <a:ext cx="5400720" cy="28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4714920" y="3005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714920" y="336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4714920" y="3005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5362560" y="4086360"/>
            <a:ext cx="144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 flipH="1" flipV="1">
            <a:off x="4788000" y="4446720"/>
            <a:ext cx="5745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788000" y="408636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5364000" y="3365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4446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6299280" y="3581280"/>
            <a:ext cx="5047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012000" y="4013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6012000" y="4013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6012000" y="3365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6012000" y="3726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6804000" y="3870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659640" y="3870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443640" y="3870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6299280" y="3726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299280" y="4013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3274920" y="3654360"/>
            <a:ext cx="50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3274920" y="3941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3419280" y="394164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3635280" y="3797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3635280" y="4086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"/>
          <p:cNvSpPr/>
          <p:nvPr/>
        </p:nvSpPr>
        <p:spPr>
          <a:xfrm>
            <a:off x="2266920" y="4734000"/>
            <a:ext cx="576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/>
          <p:nvPr/>
        </p:nvSpPr>
        <p:spPr>
          <a:xfrm>
            <a:off x="539640" y="3940200"/>
            <a:ext cx="273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2556000" y="3941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2843280" y="5022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490920" y="4230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>
            <a:off x="3490920" y="502272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588000" y="4157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3797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3922560" y="3365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3922560" y="3365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408636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3922560" y="4086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3922560" y="444672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>
            <a:off x="7308720" y="306864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антен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3476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 Р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1330200" y="516420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5668920"/>
            <a:ext cx="28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етектор входного сигна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3130560" y="242892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3851280" y="2284560"/>
            <a:ext cx="252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2698920" y="1916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ю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5148000" y="2355840"/>
            <a:ext cx="647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5724360" y="174312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илитель мощ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427640" y="4732200"/>
            <a:ext cx="576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3851280" y="574056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алошумящий усилите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зультат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9280" y="1773360"/>
          <a:ext cx="8642520" cy="4160880"/>
        </p:xfrm>
        <a:graphic>
          <a:graphicData uri="http://schemas.openxmlformats.org/drawingml/2006/table">
            <a:tbl>
              <a:tblPr/>
              <a:tblGrid>
                <a:gridCol w="1728720"/>
                <a:gridCol w="1008360"/>
                <a:gridCol w="1439640"/>
                <a:gridCol w="1440000"/>
                <a:gridCol w="1441440"/>
                <a:gridCol w="1584360"/>
              </a:tblGrid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орудование   РР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та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линеарная антен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авленная анте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уси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 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6" name=""/>
          <p:cNvSpPr/>
          <p:nvPr/>
        </p:nvSpPr>
        <p:spPr>
          <a:xfrm>
            <a:off x="539640" y="60120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веденные в таблице цифры являются ориентировочными. Реальная дальность может быть несколько ниже или выше в зависимости от рельефа местности, уровня внешних радиошумов и высоты установки антенн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>
            <a:off x="324000" y="1630440"/>
            <a:ext cx="8640720" cy="51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следует устанавливать максимально высоко, чтобы обеспечить прямую видимость между ними, но не ниже чем на высоте 1 м над поверхностью крыши. При большой высоте установки следует обеспечить заземление (использовать металлическую мачту) в целях обеспечения молниезащит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бель должен обладать малым затуханием, при этом его длина должна быть минимальна возможной. Следует использовать только кабели с волновым сопротивлением 50 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1630440"/>
            <a:ext cx="86407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ы должны быть установлены с одинаковой поляризацией причем обязательно вертикальной в случае если в радиосистеме используются коллинеарные антен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илитель следует устанавливать по возможности ближе к антенне, т.е. отрезок кабеля между антенной и усилителем должен быть минимальной длины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ич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между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тенной и сумматором, если последний использу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ачеств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умматора/делителя допустимо использовать широкополосный телевизионный разветвитес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08000" y="1951200"/>
          <a:ext cx="8820000" cy="3881160"/>
        </p:xfrm>
        <a:graphic>
          <a:graphicData uri="http://schemas.openxmlformats.org/drawingml/2006/table">
            <a:tbl>
              <a:tblPr/>
              <a:tblGrid>
                <a:gridCol w="2374920"/>
                <a:gridCol w="1865160"/>
                <a:gridCol w="2205000"/>
                <a:gridCol w="2374920"/>
              </a:tblGrid>
              <a:tr h="65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звание антен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Ан-4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Лира-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-200 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Произ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Альтоника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Драйв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"Anli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Диаграмма направл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Ненаправле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ыигрыш в расстоянии (раз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Цена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bug-balt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812) 324-22-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ww.radiolab.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розн: (495)917-50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опт: (495)73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25892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Рекомендаци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250920" y="1700280"/>
          <a:ext cx="8642160" cy="4897440"/>
        </p:xfrm>
        <a:graphic>
          <a:graphicData uri="http://schemas.openxmlformats.org/drawingml/2006/table">
            <a:tbl>
              <a:tblPr/>
              <a:tblGrid>
                <a:gridCol w="3620880"/>
                <a:gridCol w="502128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итель «Модус-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жим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вунаправленный, полудуплекс, автоматическое переключ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част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2 – 436 МГц (есть версия 868 МГц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силение приемного тра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д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ходная мощ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 40 или 100 мВт (регулируется переключателе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есть система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У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пряжение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-15 В, нестабилизир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апазон рабочих температу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0… +3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(-40… +5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º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для уличной верси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Цен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оордин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Tahoma"/>
                          <a:hlinkClick r:id="rId2"/>
                        </a:rPr>
                        <a:t>www.radio-sib.r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фон: (3822) 21-12-33 , г. Том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0324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Спасибо за внимание..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989000"/>
          <a:ext cx="7991280" cy="4392720"/>
        </p:xfrm>
        <a:graphic>
          <a:graphicData uri="http://schemas.openxmlformats.org/drawingml/2006/table">
            <a:tbl>
              <a:tblPr/>
              <a:tblGrid>
                <a:gridCol w="2813040"/>
                <a:gridCol w="2514600"/>
                <a:gridCol w="2663640"/>
              </a:tblGrid>
              <a:tr h="884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пол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435640" y="2421000"/>
            <a:ext cx="1008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55640" y="1989000"/>
          <a:ext cx="7777080" cy="4478400"/>
        </p:xfrm>
        <a:graphic>
          <a:graphicData uri="http://schemas.openxmlformats.org/drawingml/2006/table">
            <a:tbl>
              <a:tblPr/>
              <a:tblGrid>
                <a:gridCol w="2789280"/>
                <a:gridCol w="2432160"/>
                <a:gridCol w="2555640"/>
              </a:tblGrid>
              <a:tr h="804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РО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тчик, 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 качества связ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6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Г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&gt;1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6048360" cy="4593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95280" y="3747960"/>
            <a:ext cx="2158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туха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траж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3401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мир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492360" y="1557360"/>
            <a:ext cx="5185080" cy="3409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635280" y="4941720"/>
            <a:ext cx="489744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Дальность «в здании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138560" y="2381400"/>
            <a:ext cx="46101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щность передатчи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увствительность приемни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ровень шум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тухани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Замира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401840" y="376380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ahoma"/>
              </a:rPr>
              <a:t>Дальность 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706920" y="2349360"/>
            <a:ext cx="406440" cy="3313080"/>
          </a:xfrm>
          <a:custGeom>
            <a:avLst/>
            <a:gdLst>
              <a:gd name="textAreaLeft" fmla="*/ 259560 w 406440"/>
              <a:gd name="textAreaRight" fmla="*/ 406800 w 40644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0"/>
            <a:ext cx="9036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1908000" y="1052640"/>
            <a:ext cx="7236000" cy="504720"/>
          </a:xfrm>
          <a:prstGeom prst="rect">
            <a:avLst/>
          </a:prstGeom>
          <a:solidFill>
            <a:srgbClr val="ded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47640" cy="601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052640"/>
            <a:ext cx="3635280" cy="504720"/>
          </a:xfrm>
          <a:prstGeom prst="rect">
            <a:avLst/>
          </a:prstGeom>
          <a:solidFill>
            <a:srgbClr val="9695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189000"/>
            <a:ext cx="694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Проект «на бумаге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4222800" cy="4078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91400">
            <a:off x="2529000" y="4071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80000" y="4797000"/>
            <a:ext cx="1223640" cy="576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635280" y="5157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rot="191400">
            <a:off x="1187280" y="4076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9392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 rot="191400">
            <a:off x="-180720" y="4076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25560" y="5162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 rot="191400">
            <a:off x="2529000" y="183960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292572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91400">
            <a:off x="1187280" y="1844280"/>
            <a:ext cx="261972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29392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 rot="191400">
            <a:off x="-180720" y="1844280"/>
            <a:ext cx="2619360" cy="2592360"/>
          </a:xfrm>
          <a:prstGeom prst="ellipse">
            <a:avLst/>
          </a:prstGeom>
          <a:noFill/>
          <a:ln w="28440">
            <a:solidFill>
              <a:srgbClr val="333399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925560" y="2930400"/>
            <a:ext cx="36036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2987640" y="4078440"/>
            <a:ext cx="432000" cy="358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5113440" y="2852640"/>
            <a:ext cx="3995640" cy="35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извещате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яем да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мещаем РРОП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autoRev="1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16:21:09Z</dcterms:created>
  <dc:creator>pavlic</dc:creator>
  <dc:description/>
  <dc:language>en-US</dc:language>
  <cp:lastModifiedBy>Levtchouk</cp:lastModifiedBy>
  <dcterms:modified xsi:type="dcterms:W3CDTF">2007-07-05T10:26:10Z</dcterms:modified>
  <cp:revision>112</cp:revision>
  <dc:subject/>
  <dc:title>Слайд 1</dc:title>
</cp:coreProperties>
</file>