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6.jpeg" ContentType="image/jpeg"/>
  <Override PartName="/ppt/media/image5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47.wmf" ContentType="image/x-wmf"/>
  <Override PartName="/ppt/media/image51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2.jpeg" ContentType="image/jpe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6.png" ContentType="image/png"/>
  <Override PartName="/ppt/media/image35.png" ContentType="image/png"/>
  <Override PartName="/ppt/media/image32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9.png" ContentType="image/png"/>
  <Override PartName="/ppt/media/image9.png" ContentType="image/png"/>
  <Override PartName="/ppt/media/image7.png" ContentType="image/png"/>
  <Override PartName="/ppt/media/image3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9320" y="722160"/>
            <a:ext cx="480852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3C8C-B1A3-46FE-B7A8-8CEB1602C72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Переделать картинк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Добавить новую картинку пособие по проектированию (взять у Терехова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 потребления УОО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 потребления УОО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86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к потребления УОО-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2A6-E737-48AB-9344-EB443A6B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E23-DE0E-492F-BDF1-8ACD434F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00F-AE1F-408C-A411-BF4C35CA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FCF-4514-4A4B-90FC-2770EA6D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600-6CEB-43F0-9770-CE660488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1C4-CE39-44E3-B5CB-34DED3DA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BB7-80A4-45D2-B0B8-490B22F5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8996-A642-4959-B294-CA863281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53C-47C0-4008-8C44-3472B7DE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3D7-084E-4813-88F3-8A1E8D58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EF0-EF2E-4552-BEC6-38F72495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00F-0855-4DF9-A5BD-BDDCB811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7DFD-8E0D-4633-94F3-798F53E161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2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7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5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3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jpeg"/><Relationship Id="rId3" Type="http://schemas.openxmlformats.org/officeDocument/2006/relationships/image" Target="../media/image44.png"/><Relationship Id="rId4" Type="http://schemas.openxmlformats.org/officeDocument/2006/relationships/image" Target="../media/image5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4.png"/><Relationship Id="rId4" Type="http://schemas.openxmlformats.org/officeDocument/2006/relationships/image" Target="../media/image40.png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47624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ahoma"/>
              </a:rPr>
              <a:t>ВСЕ СВЯЗИ СТРЕЛЬЦА</a:t>
            </a:r>
            <a:r>
              <a:rPr b="1" lang="en-US" sz="5400" spc="-1" strike="noStrike" baseline="30000">
                <a:solidFill>
                  <a:srgbClr val="cc0000"/>
                </a:solidFill>
                <a:latin typeface="Tahoma"/>
              </a:rPr>
              <a:t>®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10" descr="Argus-Spectr_Strelec-collazh-newкопирование"/>
          <p:cNvPicPr/>
          <p:nvPr/>
        </p:nvPicPr>
        <p:blipFill>
          <a:blip r:embed="rId2"/>
          <a:stretch/>
        </p:blipFill>
        <p:spPr>
          <a:xfrm>
            <a:off x="5435640" y="1844640"/>
            <a:ext cx="313704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IP 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ети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7943760" cy="4429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427640" y="3429000"/>
            <a:ext cx="1584360" cy="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5805360"/>
            <a:ext cx="1295280" cy="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IP 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ети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419640" y="1916280"/>
            <a:ext cx="5473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тройство сопря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С-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вязь с ПЦН п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тя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 п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льтовых номе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SM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дем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22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6265800" cy="4475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IP 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ети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3068640"/>
            <a:ext cx="208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араметр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истем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083440" cy="4665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ПИ: радиокана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851280" y="3357360"/>
            <a:ext cx="2521080" cy="43164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924360" y="3933720"/>
            <a:ext cx="1008000" cy="10810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292720" y="3573000"/>
            <a:ext cx="1008000" cy="136836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2205000"/>
            <a:ext cx="5473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диопередающее устройств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Арг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оставе СПИ «Атлас-20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15 к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дача сигналов на 4 частот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улировка мощ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те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1076400" cy="3672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ПИ: радиокана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ПИ: радиокана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3068640"/>
            <a:ext cx="208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араметр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истем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4753080" cy="4156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57610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1916280"/>
            <a:ext cx="5545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стройство оконечное объектовое автоматического вызова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ОО-АВ исп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токолы «Contact ID»/«Аргус-Т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дозвон 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ме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а в ПО «Атлас-20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ПИ: телефонные лин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11280" y="3213000"/>
            <a:ext cx="1944360" cy="1873080"/>
            <a:chOff x="611280" y="3213000"/>
            <a:chExt cx="1944360" cy="1873080"/>
          </a:xfrm>
        </p:grpSpPr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611280" y="3213000"/>
              <a:ext cx="194436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182240" y="4472640"/>
              <a:ext cx="96120" cy="100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ПИ: телефонные лин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6877080" y="3068640"/>
            <a:ext cx="208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араметр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истем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5040360" cy="4407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633744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02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НОВОЕ ПО «Стрелец»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932360" y="1916280"/>
            <a:ext cx="4211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ПО «Стрелец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АРМ ПЦ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троль и управл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тализированная информ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рафические пла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 8 систем на 1 ПК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413240" cy="5157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916360" y="4508640"/>
            <a:ext cx="2089080" cy="15843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02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Структура ПО «Стрелец»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5327640" y="1916280"/>
            <a:ext cx="3816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нфигурат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правление систем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ервер аппарату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аза дан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4752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1916280"/>
            <a:ext cx="48258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Детальная информация на ПЦН по различным каналам связи 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Новое ПО</a:t>
            </a: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Интеграция с другими системами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028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Новые возмож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590760" cy="1441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2319480" cy="2710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56000" y="1628640"/>
            <a:ext cx="625320" cy="2135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619280" y="2924280"/>
            <a:ext cx="79056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02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азвитие ПО «Стрелец»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1700280"/>
            <a:ext cx="4788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ПО «Стрелец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М ПЦ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2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фигурирование из П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2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грация на уровне программного обеспечения: «Аккорд-512», «Спектр», «Кронверк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грация таблиц программиров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2625840" cy="3068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3046680" cy="2014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2050920" y="3573360"/>
            <a:ext cx="22590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149720"/>
            <a:ext cx="7559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истемы передачи извещ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деленный радиокана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налы сотовой связ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SM, CD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обычный» телеф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занятый» телеф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916280"/>
            <a:ext cx="75596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тегрированные системы безопас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идеонаблю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троль и управление доступ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ИС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1916280"/>
            <a:ext cx="6480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V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(ИНТЕЛЛЕК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Системы Контроля Досту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гра-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гма-ИС       (ИСБ «Рубеж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лектронные системы (АПК «Бастион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084720" y="2708280"/>
          <a:ext cx="2886120" cy="6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2708280"/>
                    <a:ext cx="28861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611280" y="4508640"/>
            <a:ext cx="56163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6732720" y="1773360"/>
            <a:ext cx="1655640" cy="662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6948360" y="5373720"/>
            <a:ext cx="20289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6732720" y="4508640"/>
          <a:ext cx="2232000" cy="558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32720" y="4508640"/>
                    <a:ext cx="22320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6084720" y="3645000"/>
          <a:ext cx="2880000" cy="552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84720" y="3645000"/>
                    <a:ext cx="288000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С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588000" y="1557360"/>
            <a:ext cx="2378160" cy="996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68360" y="2060640"/>
            <a:ext cx="6983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ОО НТКФ «Си-Норд» (Андромед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уппа компаний «АСБ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ъединение ОК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ПО «Центр-Протон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уппа компаний «Рубеж»  (Цербер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164360" y="3429000"/>
          <a:ext cx="136836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3429000"/>
                    <a:ext cx="136836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437000"/>
            <a:ext cx="1584360" cy="8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7308720" y="5300640"/>
          <a:ext cx="986040" cy="101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720" y="5300640"/>
                    <a:ext cx="9860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659640" y="2708280"/>
          <a:ext cx="2041560" cy="59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659640" y="2708280"/>
                    <a:ext cx="20415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С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2133720"/>
            <a:ext cx="468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ПП 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лс»  (Мираж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«Ритм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«СШС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ания «TELEmonitor Oy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«РИЭЛТА» СПИ «Зар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04000" y="2781360"/>
          <a:ext cx="1295280" cy="71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04000" y="2781360"/>
                    <a:ext cx="12952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020000" y="1700280"/>
            <a:ext cx="934920" cy="880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6443640" y="4869000"/>
            <a:ext cx="2286000" cy="29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7020000" y="3645000"/>
          <a:ext cx="936720" cy="879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20000" y="3645000"/>
                    <a:ext cx="9367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6588000" y="5589720"/>
            <a:ext cx="2016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392360" cy="3066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ИС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1042920" y="5734080"/>
            <a:ext cx="2232000" cy="5205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851280" y="573408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5219640" y="2997360"/>
            <a:ext cx="3382920" cy="2538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606920" y="5734080"/>
            <a:ext cx="4537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ппаратно-программный комплекс «Бастион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4716360" y="1916280"/>
            <a:ext cx="42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дукция компа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«Электронные системы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6948360" y="260280"/>
            <a:ext cx="20289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ИС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1916280"/>
            <a:ext cx="4176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дукция компани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V</a:t>
            </a:r>
            <a:r>
              <a:rPr b="1" lang="ru-RU" sz="2400" spc="-1" strike="noStrike" baseline="30000">
                <a:solidFill>
                  <a:srgbClr val="c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76720" y="2924280"/>
            <a:ext cx="3724560" cy="2890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187280" y="6093000"/>
            <a:ext cx="2232360" cy="520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140360" y="6093000"/>
            <a:ext cx="57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79280" y="2781360"/>
            <a:ext cx="3664080" cy="30812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564000" y="2205000"/>
            <a:ext cx="1439640" cy="1428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5651640" y="6093000"/>
            <a:ext cx="2663640" cy="477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7380360" y="260280"/>
            <a:ext cx="1476360" cy="590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ИС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5110200" y="2133720"/>
            <a:ext cx="38545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дукция компании ЗАО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Системы Контроля Досту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нтеграц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2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 уровне П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ппарат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4716360" cy="330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539640" y="5516640"/>
          <a:ext cx="4038840" cy="85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5516640"/>
                    <a:ext cx="403884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ИСБ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4537080" cy="28526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3456000" cy="2413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916360" y="2997360"/>
            <a:ext cx="20872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6588000" y="4076640"/>
            <a:ext cx="129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Пожа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771640" y="2205000"/>
            <a:ext cx="22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Постанов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на охран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076720" y="4437000"/>
            <a:ext cx="1224000" cy="1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3708360" y="5445000"/>
            <a:ext cx="273528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5661000"/>
            <a:ext cx="1584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Открыт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двер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our" descr=""/>
          <p:cNvPicPr/>
          <p:nvPr/>
        </p:nvPicPr>
        <p:blipFill>
          <a:blip r:embed="rId4"/>
          <a:stretch/>
        </p:blipFill>
        <p:spPr>
          <a:xfrm>
            <a:off x="2124000" y="5373720"/>
            <a:ext cx="862200" cy="115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611280" y="5013360"/>
          <a:ext cx="784080" cy="12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013360"/>
                    <a:ext cx="78408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547640" y="5589720"/>
            <a:ext cx="576360" cy="21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300720" y="393372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2195640" y="4797360"/>
            <a:ext cx="72720" cy="79236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2556000" y="4653000"/>
            <a:ext cx="287280" cy="647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Oval 20"/>
          <p:cNvSpPr/>
          <p:nvPr/>
        </p:nvSpPr>
        <p:spPr>
          <a:xfrm>
            <a:off x="2124000" y="4365720"/>
            <a:ext cx="432000" cy="4316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7"/>
          <a:stretch/>
        </p:blipFill>
        <p:spPr>
          <a:xfrm>
            <a:off x="7020000" y="4797360"/>
            <a:ext cx="8697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1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2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С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4788000" y="1916280"/>
            <a:ext cx="41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дукция компани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N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508720" y="3068640"/>
            <a:ext cx="2857320" cy="2400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6156360" y="5661000"/>
            <a:ext cx="1809720" cy="5587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835280" y="5734080"/>
            <a:ext cx="2232000" cy="5205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250920" y="2276640"/>
            <a:ext cx="4681440" cy="3268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716360" y="573408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7308720" y="189000"/>
            <a:ext cx="165744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17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трелец</a:t>
            </a:r>
            <a:r>
              <a:rPr b="1" lang="en-US" sz="4000" spc="-1" strike="noStrike" baseline="30000">
                <a:solidFill>
                  <a:srgbClr val="cc0000"/>
                </a:solidFill>
                <a:latin typeface="Tahoma"/>
              </a:rPr>
              <a:t>®</a:t>
            </a: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 в составе С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3962520" cy="4319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211640" y="1989000"/>
            <a:ext cx="49323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ередача извещений по различным каналам связи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товые сети стандарт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S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SM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деленный радиокана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обычный» телеф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занятый» телеф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нтеграция: СП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4967280" y="1916280"/>
            <a:ext cx="41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дукция компании НПП «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с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403280" y="5734080"/>
            <a:ext cx="2232000" cy="5205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50920" y="2276640"/>
            <a:ext cx="4681440" cy="32684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643280" y="573408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7885080" y="41400"/>
            <a:ext cx="934920" cy="8809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084720" y="5734080"/>
            <a:ext cx="24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АЖ-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6372360" y="2781360"/>
            <a:ext cx="17431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03240" y="3182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пасибо за внимание..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44040" cy="4334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4211640" y="3499920"/>
            <a:ext cx="1441440" cy="28764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4067280" y="4365720"/>
            <a:ext cx="1512720" cy="28728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1703520" cy="4154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2060640"/>
            <a:ext cx="5761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тройство оконечное объектов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пультово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ОО-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-С1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(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ОП-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GS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товые телефоны пользователей и/или ПЦН (ПО «Атлас-20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тализированная информ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правление систем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2060640"/>
            <a:ext cx="54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тройство оконечное объектовое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ОО-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GSM-C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фигурирование радиосисте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ор параметров и программирование системного 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ключ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170352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3068640"/>
            <a:ext cx="208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истем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5832360" cy="3652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195640" y="3933720"/>
            <a:ext cx="36716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054920" y="3068640"/>
            <a:ext cx="20890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араметр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истем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5819760" cy="4495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5800680" cy="4486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79280" y="1844640"/>
            <a:ext cx="6697800" cy="4532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79280" y="1844640"/>
            <a:ext cx="66978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СПИ: 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2205000"/>
            <a:ext cx="403236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ключ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УОО-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GSM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-С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тановк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р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ключение к РРОП-К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интерфей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ключени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та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40050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9:32:43Z</dcterms:created>
  <dc:creator>Mikhail Levtchouk</dc:creator>
  <dc:description/>
  <dc:language>en-US</dc:language>
  <cp:lastModifiedBy>evgeniya</cp:lastModifiedBy>
  <dcterms:modified xsi:type="dcterms:W3CDTF">2007-07-19T10:09:53Z</dcterms:modified>
  <cp:revision>405</cp:revision>
  <dc:subject/>
  <dc:title>СТРЕЛЕЦ® </dc:title>
</cp:coreProperties>
</file>